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BD35-1CF7-46B2-A353-D430E782EA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C8DD-5B18-4937-BA5C-07673512B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3CA-B1CB-426A-A5DA-ADC872BD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480-E7EB-447B-8EBD-1FA5CC8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36E-AA6E-42F0-9E0C-BA4C7FD0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AAB-BA02-43D7-B995-E0354022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D5F3-BC45-4F8E-9B02-1E77C249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0125-1D0A-4A7F-B3F6-0DBF78D0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17D2-A233-473E-8BD1-A11909F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AA02-EAA8-49D6-AEB7-8872B854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1357-47BF-464F-BC63-F7AD1DCC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FFFE-7AF1-4F91-9BC1-DADF76AC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B5B-9B20-46FE-9D52-22F573E1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E12-5E98-432B-8BF3-096D44AD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A080-900B-4620-A042-B5B4F581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9041-C103-45A3-B857-1A22BEDB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49A1-D2C6-41D6-9103-2BEADC69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E597-CD56-45DC-B959-BD15214E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C292-23AE-4F15-9A23-302441FF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391D-7E5F-470D-A02E-9609B162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3A60-BA6E-4E85-B44B-DA80F5A4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DE94-CDF0-4755-AB35-71D23839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36CF-BAA8-42D7-9E7A-9C15CA18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009EE-6D5F-4981-B277-A3B581AA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618-DE25-475A-8D49-A4D9E1A8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3743-D15B-42B3-BE74-A81F0D23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CCD7-36A8-4177-8C99-6B5E7845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1A45-DF75-4520-9297-B38EAC0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7526-BEA5-408F-B44D-742B9B39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B3BB-EC83-4093-B9D3-5E06880C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9F58-F487-45C2-9A8F-D8ACA322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72E5-3EC1-458B-98DE-BB1C79DC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4FD6-9334-4A66-8BBD-EA876CA3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A6CC-8534-441D-88DD-F0EB5BEE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49F9F-BF56-41C1-A7CD-521BB96D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19D-9C53-43E8-B7A4-35A18688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A339C-A150-4D60-864A-7CED805B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A36E2-D7B9-4A5D-90A7-A2E398C5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3015-4CE4-4C90-8A89-86F6ABF1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A74C6-05E2-4378-B50D-9A4D11E3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FDB3-FE26-4BBC-AE70-DECCBAC4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30F67-4A1E-4174-96BC-48799B7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DF37F-91DE-4D9C-8088-92CA2C5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5C03-04D2-45C7-8CA5-110E65FD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B3CC-236B-47FF-846E-F8EBCCD5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76B-A84A-4235-BD95-D0A153C6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073-2ADD-4ECF-9158-9B166DDD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C14-3C40-4042-9765-2DAB4502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6B9-EC2A-44AF-8E56-A894F6A6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4F0-B4AA-4416-8009-19134A8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B99B-4F7E-4CED-AA40-29E1C2E346E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F0E6-C8B7-45ED-A441-F2B4129C75F4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BDB7-EFA8-4A53-A221-B4A354FB5AD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31C5-27F9-4F17-A967-90CC9FEA93E8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6587-9FEA-42C7-AF97-3A50BFB8E05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2830-15AD-4F76-AEEA-F32E3E15905F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81E3-3121-41A7-A908-8D2B6E10193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ABCF-DFA4-4642-A3E8-646CBC7907DF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84c2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ункциональные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84c2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роль функциональной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 функциональн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НИОК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84c22"/>
                </a:solidFill>
                <a:uFillTx/>
                <a:latin typeface="Trebuchet MS"/>
              </a:rPr>
              <a:t>Функциональная стратегия </a:t>
            </a: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определяет направление деятельности той или иной функциональной службы (или отдела) внутри одной сферы бизнеса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ль функциональной стратегии заключается в поддержке общей деловой стратегии и конкурентоспособности фирмы, а также в создании управленческих ориентиров для достижения намеченных функциональных целей компа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1680" y="785880"/>
          <a:ext cx="7858080" cy="5371920"/>
        </p:xfrm>
        <a:graphic>
          <a:graphicData uri="http://schemas.openxmlformats.org/drawingml/2006/table">
            <a:tbl>
              <a:tblPr/>
              <a:tblGrid>
                <a:gridCol w="2060280"/>
                <a:gridCol w="5797800"/>
              </a:tblGrid>
              <a:tr h="5634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стратегическ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 сохранение лояльной группы потребителей посредством уникального сочетания товара, сбыта, продвижения и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использование производственных возможностей, снижение относительных издержек производства и макси­мизация контро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 пределах установленного бюджета, упор на прибыльную продукцию, контроль кредита и ми­нимизация стоимости зай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изация отчетности, тщательная детализация издержек, стандартизация сде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блюдение конкретных спецификаций, ограничение числа моделей и вариантов, концентрация на улучшении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материалов большими однородными партиями по низким ценам и поддержание небольших зап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технологических прорывов, улучшение качества продукции, выявление нововве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Производственная стратегия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это долгосрочная программа конкретных действий по созданию и реализации продукции предприятия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ая стратег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размещен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рганизации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 НИОКР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это долгосрочная программа конкретных действий, связанных с созданием нового продукта и технологии производства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ступатель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щит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глощающ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бойничь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Выбор стратегии НИОКР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38" name="Group 219" descr=""/>
          <p:cNvPicPr/>
          <p:nvPr/>
        </p:nvPicPr>
        <p:blipFill>
          <a:blip r:embed="rId1"/>
          <a:stretch/>
        </p:blipFill>
        <p:spPr>
          <a:xfrm>
            <a:off x="487440" y="1420920"/>
            <a:ext cx="8192880" cy="499248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9:26:04Z</dcterms:created>
  <dc:creator>И.В.</dc:creator>
  <dc:description/>
  <dc:language>en-US</dc:language>
  <cp:lastModifiedBy>Толя</cp:lastModifiedBy>
  <dcterms:modified xsi:type="dcterms:W3CDTF">2014-12-01T07:01:49Z</dcterms:modified>
  <cp:revision>5</cp:revision>
  <dc:subject/>
  <dc:title>Функциональные стратегии</dc:title>
</cp:coreProperties>
</file>